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4.png" ContentType="image/png"/>
  <Override PartName="/ppt/media/image13.png" ContentType="image/png"/>
  <Override PartName="/ppt/media/image5.png" ContentType="image/png"/>
  <Override PartName="/ppt/media/password.wav" ContentType="audio/x-wav"/>
  <Override PartName="/ppt/media/image10.png" ContentType="image/png"/>
  <Override PartName="/ppt/media/image2.jpeg" ContentType="image/jpeg"/>
  <Override PartName="/ppt/media/image9.png" ContentType="image/png"/>
  <Override PartName="/ppt/media/buzzer.wav" ContentType="audio/x-wav"/>
  <Override PartName="/ppt/media/image6.png" ContentType="image/png"/>
  <Override PartName="/ppt/media/image11.png" ContentType="image/png"/>
  <Override PartName="/ppt/media/image15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C4C0-BC37-49B5-9AF1-2FB79BA1D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26A3-8597-4C01-B595-89074557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88F0-F2AB-431B-A710-288690876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E3D7-1D36-4509-A420-0100B6483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FBCD-534D-41AA-B72F-68929BF0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428D-D84D-49F1-B219-A53221C2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A9F5-0FF6-4B61-AFFA-49126F63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7C39-081C-452B-BF87-8E61E973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4A24-9658-4D5A-97EB-D684A6E4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82EC-1682-4D52-A203-93ECC2C2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0B6A-6F9D-4196-828F-BEDD76FD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5F23-BFDE-4620-865F-178253EF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F287-3A87-4302-B286-569235F424B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4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password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523880" y="25905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Verdana"/>
              </a:rPr>
              <a:t>Cowboys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ocabulary Review Acti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6" descr="shh"/>
          <p:cNvPicPr/>
          <p:nvPr/>
        </p:nvPicPr>
        <p:blipFill>
          <a:blip r:embed="rId1"/>
          <a:stretch/>
        </p:blipFill>
        <p:spPr>
          <a:xfrm>
            <a:off x="3657600" y="4572000"/>
            <a:ext cx="2057400" cy="1863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password1"/>
          <p:cNvPicPr/>
          <p:nvPr/>
        </p:nvPicPr>
        <p:blipFill>
          <a:blip r:embed="rId2"/>
          <a:stretch/>
        </p:blipFill>
        <p:spPr>
          <a:xfrm>
            <a:off x="1676520" y="838080"/>
            <a:ext cx="5981760" cy="1562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3" name="passwor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galloped 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22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24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0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2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roundup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40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41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43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2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chuckwagon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60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62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8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20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bellowed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78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79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81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4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8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2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523520"/>
            <a:ext cx="7313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ne student stands with back to this present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class gives the student clues to the vocabulary word onscreen as a clock keeps tim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student tries to guess the word before the buzz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6699"/>
                </a:solidFill>
                <a:latin typeface="Arial"/>
              </a:rPr>
              <a:t>Ready to play?</a:t>
            </a:r>
            <a:endParaRPr b="0" lang="en-US" sz="6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1" name="Picture 4" descr="password"/>
          <p:cNvPicPr/>
          <p:nvPr/>
        </p:nvPicPr>
        <p:blipFill>
          <a:blip r:embed="rId1"/>
          <a:stretch/>
        </p:blipFill>
        <p:spPr>
          <a:xfrm>
            <a:off x="2514600" y="2209680"/>
            <a:ext cx="441000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cattl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08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10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2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trail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27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29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cowboy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46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48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herd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64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65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67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campfir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84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2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railroad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03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05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4T00:20:42Z</dcterms:created>
  <dc:creator>Connie Campbell</dc:creator>
  <dc:description/>
  <dc:language>en-US</dc:language>
  <cp:lastModifiedBy>teacher</cp:lastModifiedBy>
  <dcterms:modified xsi:type="dcterms:W3CDTF">2011-05-02T14:01:27Z</dcterms:modified>
  <cp:revision>39</cp:revision>
  <dc:subject/>
  <dc:title>Password</dc:title>
</cp:coreProperties>
</file>